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9.gif" ContentType="image/gif"/>
  <Override PartName="/ppt/media/image38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29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1EF-6CED-498F-A72F-AAF77902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9D4-1B75-4269-A863-DEC1D603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F87-83C0-4DDD-B186-FF7B126D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E7B-D4B4-4A43-9E93-CB57371D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85A-1F20-4992-A73C-C4D80A3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2F5-7265-44A3-96B0-618039CE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944-A93A-40A1-82D6-E84391B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3B2-192E-4376-8482-C5492A9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57D-6FAF-40BF-9339-E0634215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1C4-D4A1-4260-BA75-98DF8ED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17E-A641-4C8B-B82A-D2FAE9A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C63-EC07-4252-A8E5-77D0E19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5EC-695E-43DC-B01E-FBF48F8D7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929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719360" y="237960"/>
            <a:ext cx="5162400" cy="136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584360" y="3355920"/>
            <a:ext cx="5268960" cy="351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5940360" y="1160640"/>
            <a:ext cx="3237120" cy="27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5"/>
          <a:stretch/>
        </p:blipFill>
        <p:spPr>
          <a:xfrm>
            <a:off x="-9360" y="1233360"/>
            <a:ext cx="3217680" cy="24177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6"/>
          <a:stretch/>
        </p:blipFill>
        <p:spPr>
          <a:xfrm>
            <a:off x="-165240" y="1054080"/>
            <a:ext cx="353700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7"/>
          <a:stretch/>
        </p:blipFill>
        <p:spPr>
          <a:xfrm>
            <a:off x="5877000" y="1066680"/>
            <a:ext cx="1852560" cy="9702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8"/>
          <a:stretch/>
        </p:blipFill>
        <p:spPr>
          <a:xfrm>
            <a:off x="3164040" y="3249720"/>
            <a:ext cx="2236680" cy="96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:\ЭКОЛОГИЯ\АНИМАШКИ\76d0e03dc2bf1d2938c195aaa007cd5d.gif"/>
          <p:cNvPicPr/>
          <p:nvPr/>
        </p:nvPicPr>
        <p:blipFill>
          <a:blip r:embed="rId9"/>
          <a:stretch/>
        </p:blipFill>
        <p:spPr>
          <a:xfrm>
            <a:off x="7020000" y="4653000"/>
            <a:ext cx="18478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3585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115920" y="401760"/>
            <a:ext cx="95410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I:\цикламен влаг.jpg"/>
          <p:cNvPicPr/>
          <p:nvPr/>
        </p:nvPicPr>
        <p:blipFill>
          <a:blip r:embed="rId3"/>
          <a:stretch/>
        </p:blipFill>
        <p:spPr>
          <a:xfrm>
            <a:off x="5148360" y="1289160"/>
            <a:ext cx="4176720" cy="55688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4"/>
          <a:stretch/>
        </p:blipFill>
        <p:spPr>
          <a:xfrm>
            <a:off x="5456160" y="5754600"/>
            <a:ext cx="2548080" cy="97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:\кисл влагол2.jpg"/>
          <p:cNvPicPr/>
          <p:nvPr/>
        </p:nvPicPr>
        <p:blipFill>
          <a:blip r:embed="rId5"/>
          <a:stretch/>
        </p:blipFill>
        <p:spPr>
          <a:xfrm>
            <a:off x="-33480" y="1413000"/>
            <a:ext cx="5181840" cy="5445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6"/>
          <a:stretch/>
        </p:blipFill>
        <p:spPr>
          <a:xfrm>
            <a:off x="195120" y="1736640"/>
            <a:ext cx="22068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42840" y="212760"/>
            <a:ext cx="9429840" cy="13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I:\примула свеь.jpg"/>
          <p:cNvPicPr/>
          <p:nvPr/>
        </p:nvPicPr>
        <p:blipFill>
          <a:blip r:embed="rId3"/>
          <a:stretch/>
        </p:blipFill>
        <p:spPr>
          <a:xfrm>
            <a:off x="33480" y="3902040"/>
            <a:ext cx="2970000" cy="295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:\герань свет2.jpg"/>
          <p:cNvPicPr/>
          <p:nvPr/>
        </p:nvPicPr>
        <p:blipFill>
          <a:blip r:embed="rId4"/>
          <a:stretch/>
        </p:blipFill>
        <p:spPr>
          <a:xfrm>
            <a:off x="6407280" y="3138480"/>
            <a:ext cx="2736720" cy="37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:\спатифилиум свет.jpg"/>
          <p:cNvPicPr/>
          <p:nvPr/>
        </p:nvPicPr>
        <p:blipFill>
          <a:blip r:embed="rId5"/>
          <a:stretch/>
        </p:blipFill>
        <p:spPr>
          <a:xfrm>
            <a:off x="2771640" y="139392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6"/>
          <a:stretch/>
        </p:blipFill>
        <p:spPr>
          <a:xfrm>
            <a:off x="3181320" y="5273640"/>
            <a:ext cx="3390840" cy="9684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7"/>
          <a:stretch/>
        </p:blipFill>
        <p:spPr>
          <a:xfrm>
            <a:off x="7564320" y="3035160"/>
            <a:ext cx="1933560" cy="9702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8"/>
          <a:stretch/>
        </p:blipFill>
        <p:spPr>
          <a:xfrm>
            <a:off x="-244440" y="3797280"/>
            <a:ext cx="2298600" cy="96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I:\ЭКОЛОГИЯ\АНИМАШКИ\f103.gif"/>
          <p:cNvPicPr/>
          <p:nvPr/>
        </p:nvPicPr>
        <p:blipFill>
          <a:blip r:embed="rId9"/>
          <a:stretch/>
        </p:blipFill>
        <p:spPr>
          <a:xfrm>
            <a:off x="179280" y="1135080"/>
            <a:ext cx="18446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44280" y="-100080"/>
            <a:ext cx="9299520" cy="6958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2"/>
          <a:stretch/>
        </p:blipFill>
        <p:spPr>
          <a:xfrm>
            <a:off x="-255600" y="401760"/>
            <a:ext cx="987588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:\Aspidistra.jpg"/>
          <p:cNvPicPr/>
          <p:nvPr/>
        </p:nvPicPr>
        <p:blipFill>
          <a:blip r:embed="rId3"/>
          <a:stretch/>
        </p:blipFill>
        <p:spPr>
          <a:xfrm>
            <a:off x="1692360" y="1447920"/>
            <a:ext cx="469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-66600" y="0"/>
            <a:ext cx="9651960" cy="77216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" descr=""/>
          <p:cNvPicPr/>
          <p:nvPr/>
        </p:nvPicPr>
        <p:blipFill>
          <a:blip r:embed="rId2"/>
          <a:stretch/>
        </p:blipFill>
        <p:spPr>
          <a:xfrm>
            <a:off x="317520" y="262080"/>
            <a:ext cx="917424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I:\очитки засух.jpg"/>
          <p:cNvPicPr/>
          <p:nvPr/>
        </p:nvPicPr>
        <p:blipFill>
          <a:blip r:embed="rId3"/>
          <a:stretch/>
        </p:blipFill>
        <p:spPr>
          <a:xfrm>
            <a:off x="-66600" y="179712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" descr=""/>
          <p:cNvPicPr/>
          <p:nvPr/>
        </p:nvPicPr>
        <p:blipFill>
          <a:blip r:embed="rId4"/>
          <a:stretch/>
        </p:blipFill>
        <p:spPr>
          <a:xfrm>
            <a:off x="-96840" y="1712880"/>
            <a:ext cx="1968480" cy="96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5"/>
          <a:stretch/>
        </p:blipFill>
        <p:spPr>
          <a:xfrm>
            <a:off x="3065400" y="2719440"/>
            <a:ext cx="3897360" cy="46926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6"/>
          <a:stretch/>
        </p:blipFill>
        <p:spPr>
          <a:xfrm>
            <a:off x="4743360" y="2639880"/>
            <a:ext cx="2260800" cy="96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7"/>
          <a:stretch/>
        </p:blipFill>
        <p:spPr>
          <a:xfrm>
            <a:off x="6827760" y="1778040"/>
            <a:ext cx="293076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8"/>
          <a:stretch/>
        </p:blipFill>
        <p:spPr>
          <a:xfrm>
            <a:off x="6888240" y="3213000"/>
            <a:ext cx="15364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-9360" y="-3240"/>
            <a:ext cx="9334440" cy="703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-44280" y="1179360"/>
            <a:ext cx="5816520" cy="58579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3"/>
          <a:stretch/>
        </p:blipFill>
        <p:spPr>
          <a:xfrm>
            <a:off x="969840" y="334800"/>
            <a:ext cx="7527960" cy="1365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4"/>
          <a:stretch/>
        </p:blipFill>
        <p:spPr>
          <a:xfrm>
            <a:off x="3303720" y="5211720"/>
            <a:ext cx="2414520" cy="153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5446800" y="1413000"/>
            <a:ext cx="3878280" cy="56163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" descr=""/>
          <p:cNvPicPr/>
          <p:nvPr/>
        </p:nvPicPr>
        <p:blipFill>
          <a:blip r:embed="rId6"/>
          <a:stretch/>
        </p:blipFill>
        <p:spPr>
          <a:xfrm>
            <a:off x="5614920" y="6218280"/>
            <a:ext cx="37306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22:19Z</dcterms:created>
  <dc:creator>1</dc:creator>
  <dc:description/>
  <dc:language>en-US</dc:language>
  <cp:lastModifiedBy>студент</cp:lastModifiedBy>
  <dcterms:modified xsi:type="dcterms:W3CDTF">2011-06-09T05:00:59Z</dcterms:modified>
  <cp:revision>11</cp:revision>
  <dc:subject/>
  <dc:title>Презентация PowerPoint</dc:title>
</cp:coreProperties>
</file>